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A0E98F-0863-4949-8546-D57E362EDEEF}" type="datetime">
              <a:rPr b="0" lang="en-CA" sz="1200" spc="-1" strike="noStrike">
                <a:solidFill>
                  <a:srgbClr val="000000"/>
                </a:solidFill>
                <a:latin typeface="Calibri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7B5686-015B-4C01-BFF4-C7715F97F4D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1B6979-BFA1-4DF2-9BD8-72DDDD9FB63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61B6F2-21B1-444F-90ED-305180F872E4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3DB89D-EF17-4896-A344-BC0E2DE9DB66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8E07F5-91D0-4394-8FFA-FA967188873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CCCB83-6649-460E-B3CB-D0E21BD44EE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F7C6-A552-4765-8C78-3677AD676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6E49-5CBF-457C-863A-0C05E9FA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1732-2AE8-4B0B-A248-8968BBC7F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CE1E-BB04-4E04-8611-2A1AC26D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B508-F121-4649-87B5-7DB2212F3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EA58-26CA-4A46-A29A-20F687AE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6DE0-67F6-4945-97FA-963E27B8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3101-D9F7-42AF-B79A-78F5F47F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DE49-0247-459D-B59B-342C6151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6555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26125-7964-48A3-A479-DA4C758B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B0BC7-1BDA-49B6-9779-922B7675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2912-4A1E-4068-9C16-2F5373D8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7AEA-78FD-45FC-9A4C-EB80FEF2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D169-03F3-48E7-85FC-8C85705B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F91A-9347-4879-9FAC-B12FB55A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74B8-79C7-4F87-9966-34863D94B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69B8-9817-4A98-B6F3-27CF05D1E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69A1-4685-4D8E-9138-B1AE6CC2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8281-21B9-4B6C-AAE5-167FCC0C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3E02-97F2-4B76-A841-A159A938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6555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E080-30D6-4373-9F17-F771D2E7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FF74-FDEB-46B4-BDA4-DEA10380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E22E-B38C-4939-9156-AE084C40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826D-5BF9-4979-9A0C-B9AB2795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ityEdm_DepCityManager_working slide_gree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09680" indent="-38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09680" indent="-38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59F67C-A9BE-44AD-998A-4DE001BB18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0ED68D-5DED-41A1-83A6-4D57FBEF77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CityEdm_DepCityManager_titl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09680" indent="-38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09680" indent="-38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242298-9D0B-459E-805C-BF78B1BCF0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BBD57B-97D7-432D-8296-92331BBDDE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8" descr="CityEdm_DepCityManager_title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"/>
          <p:cNvSpPr/>
          <p:nvPr/>
        </p:nvSpPr>
        <p:spPr>
          <a:xfrm>
            <a:off x="1676520" y="4876920"/>
            <a:ext cx="6781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66a3"/>
                </a:solidFill>
                <a:latin typeface="Arial Black"/>
              </a:rPr>
              <a:t>John R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66a3"/>
                </a:solidFill>
                <a:latin typeface="Arial Black"/>
              </a:rPr>
              <a:t>Chief Econom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66a3"/>
                </a:solidFill>
                <a:latin typeface="Arial Black"/>
              </a:rPr>
              <a:t>Financia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0" y="1600200"/>
            <a:ext cx="8458200" cy="183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 Black"/>
              </a:rPr>
              <a:t>The Economic Impact of the Late Night Econom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 Black"/>
              </a:rPr>
              <a:t>June 28, 20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7696080" y="6019920"/>
            <a:ext cx="1143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l Growth in GDP for the City of Edmonton and the CM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The CMA has enjoyed a quicker recovery has manufacturing and non-residential construction activity picks u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Over the medium term the City growth rate converges with that of the reg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A somewhat younger demographic profile allows the City and region to grow more rapidly then Canada in the final years of the outloo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495680" y="1828800"/>
          <a:ext cx="4168800" cy="371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828800"/>
                    <a:ext cx="416880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Rectangle 6"/>
          <p:cNvSpPr/>
          <p:nvPr/>
        </p:nvSpPr>
        <p:spPr>
          <a:xfrm>
            <a:off x="981720" y="5970960"/>
            <a:ext cx="435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: Economic Trends and External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isks and Opportuniti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s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discount for Cdn oil leads to slow down in 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an financial systems ‘locks’ pushing US into rec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n housing market stumbles reducing consumer confidence and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dden slowdown in emerging markets depresses commodity pr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 recovery gains momentum pulling up Cdn expo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 patches over financial issues and returns to faster growth profile boosting global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a and other emerging countries succeed in stimulating more rapid growth hiking global commodity pr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is the late night economy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35 licensed establishments open after midnigh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resent approximately 23% of all licensed establishments in the C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estimated customer revenues in 2010 $467 mill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estimated visits in 2010 – 20 mill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stimating the economic impac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ed on survey data calculated total revenues for the sector based on average per seat valu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ed a set of multipliers specific to the City of Edmont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imated the direct and indirect impacts by applying City specific multipliers to the sector’s revenu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ults for 201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impact on economic output $686 mill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ition to Gross Domestic Product of the City - $310 million or 0.7% of the City tot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ges and Salaries - $215 mill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ll time equivalent jobs – 5,800 or 1.5% of total employment in the Cit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ther key benefits of the sect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major source of entry level positions for students and young peop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upport to special events such as the International Jazz Festival Fringe Fes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mportant factor in attracting and retaining young and mobile worker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gnificant ancillary impacts via patron spending on retail, food, transportation and other sec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Ro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ef Econom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Ser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th Floor, Chancery Ha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monton, Alberta, T5J 2C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780) 496-607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.rose@edmonton.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nt developments in Edmonton’s Economy– Slowing Growth &amp; Rising Ris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ada , Alberta, Edmon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P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ty of Edmonton, Job Growth, Employment, CPI and Non-Residential Construction and Labour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utlook - Edmonton and the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ate Night Econom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late night econom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conomic imp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lobal Environ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94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uneven and anaemic recovery is underw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w growth in advanced countries solid growth in developing econom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mentum is slowing building in North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 to experience a ‘double dip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pe struggling with debt and deficit re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 financial markets remain frag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nish, Italian, Portuguese and other sovereign debt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resolved US debate on defic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651200" y="1600200"/>
          <a:ext cx="399276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0" y="1600200"/>
                    <a:ext cx="399276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6"/>
          <p:cNvSpPr/>
          <p:nvPr/>
        </p:nvSpPr>
        <p:spPr>
          <a:xfrm>
            <a:off x="5272920" y="6048360"/>
            <a:ext cx="28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International Monetary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nada, Alberta &amp; Edmont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adian domestic conditions remain good particularly in western provinc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tter US expansion will boost growth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berta continues to outperform national average. Accelerates in 201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2 will be a very good year for GDP &amp; outstanding employment growth in Edmont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monton’s growth will slow to more sustainable levels in 2013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6"/>
          <p:cNvGraphicFramePr/>
          <p:nvPr/>
        </p:nvGraphicFramePr>
        <p:xfrm>
          <a:off x="4678200" y="1603440"/>
          <a:ext cx="400212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8200" y="1603440"/>
                    <a:ext cx="400212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Text Box 7"/>
          <p:cNvSpPr/>
          <p:nvPr/>
        </p:nvSpPr>
        <p:spPr>
          <a:xfrm>
            <a:off x="4876920" y="5187960"/>
            <a:ext cx="403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: IMF, Conference Board, Economic Trends and External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il Prices</a:t>
            </a:r>
            <a:br>
              <a:rPr sz="36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st Texas Intermedi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1652760" y="6129360"/>
            <a:ext cx="413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: US Energy Information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855720" y="1523880"/>
          <a:ext cx="7940520" cy="384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720" y="1523880"/>
                    <a:ext cx="7940520" cy="38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il Price Ga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Text Placeholder 2"/>
          <p:cNvGraphicFramePr/>
          <p:nvPr/>
        </p:nvGraphicFramePr>
        <p:xfrm>
          <a:off x="1035000" y="1600200"/>
          <a:ext cx="70722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Text Placeholder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5000" y="1600200"/>
                    <a:ext cx="7072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946440" y="6132600"/>
            <a:ext cx="21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rce: Bloombe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tural Gas Prices</a:t>
            </a:r>
            <a:br>
              <a:rPr sz="36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nry Hu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652760" y="6129360"/>
            <a:ext cx="413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: US Energy Information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4"/>
          <p:cNvGraphicFramePr/>
          <p:nvPr/>
        </p:nvGraphicFramePr>
        <p:xfrm>
          <a:off x="304920" y="1523880"/>
          <a:ext cx="7329240" cy="480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7329240" cy="48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ob Growth Stal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bs lost in 2008 &amp; 2009 have now been recover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monton’s rate of job growth in 2011 among the fastest of any large municipalit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our force has been growing which has moderated wage pressur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nt job losses will delay but not prevent  expected labour shortages and wage pressures in the next yea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Object 6"/>
          <p:cNvGraphicFramePr/>
          <p:nvPr/>
        </p:nvGraphicFramePr>
        <p:xfrm>
          <a:off x="4648320" y="1800360"/>
          <a:ext cx="4281480" cy="432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800360"/>
                    <a:ext cx="4281480" cy="43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ext Box 7"/>
          <p:cNvSpPr/>
          <p:nvPr/>
        </p:nvSpPr>
        <p:spPr>
          <a:xfrm>
            <a:off x="4643280" y="5973840"/>
            <a:ext cx="23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: Statistics Ca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0"/>
          <p:cNvSpPr/>
          <p:nvPr/>
        </p:nvSpPr>
        <p:spPr>
          <a:xfrm>
            <a:off x="4649400" y="1523880"/>
            <a:ext cx="416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monton CMA Unemployment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umer Inflation is Stabiliz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monton’s year over year inflation rate is down to 0.4% from relatively high levels in 201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with Alberta, inflation will pick up somewhat from current levels. Forecast is for 2.00% in 201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4491000" y="4835520"/>
            <a:ext cx="23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: Statistics Ca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5500080" y="1523880"/>
            <a:ext cx="269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monton CMA C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nual Rate of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12"/>
          <p:cNvGraphicFramePr/>
          <p:nvPr/>
        </p:nvGraphicFramePr>
        <p:xfrm>
          <a:off x="4803840" y="2060640"/>
          <a:ext cx="4281480" cy="230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3840" y="2060640"/>
                    <a:ext cx="4281480" cy="23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22:06:34Z</dcterms:created>
  <dc:creator>Fadiel Razkalla</dc:creator>
  <dc:description/>
  <dc:language>en-US</dc:language>
  <cp:lastModifiedBy>andyun</cp:lastModifiedBy>
  <cp:lastPrinted>2012-04-25T16:19:02Z</cp:lastPrinted>
  <dcterms:modified xsi:type="dcterms:W3CDTF">2012-07-10T17:54:50Z</dcterms:modified>
  <cp:revision>263</cp:revision>
  <dc:subject/>
  <dc:title>Slide 1</dc:title>
</cp:coreProperties>
</file>