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40000-390B-47EE-A759-2203F6E52EBE}" type="datetime">
              <a:rPr b="0" lang="en-CA" sz="1200" spc="-1" strike="noStrike">
                <a:solidFill>
                  <a:srgbClr val="000000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E7185-1888-409A-9471-BDC5DF088CE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00AB6-4FC1-4A78-8FF2-B01841A291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D122F-7A51-42A1-A58E-9C70FA55292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01724-D63E-4BCB-ADF4-F99D7ED6147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2417C-4547-46EA-9438-4CC9494015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49E50-00E3-44D5-A803-DD95EBC1C9E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260-21B4-44D3-813B-CF56F469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4D7-271C-48CD-9651-FA847DCD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6B6-9D3E-43B8-BF4F-CB41A7FE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EDE-BD38-41C7-85D8-0508B430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8FFA-A684-435F-91D8-07E2F941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17BC-48B4-4A19-BDC1-C4CD89F5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596-0595-4662-BE73-A5F76BBE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F012-A1C5-4F70-BFC4-B3FC580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AA7E-2E88-44B1-B4D2-FF08470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555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4FA5-CC8F-48ED-84FC-D96CC1C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77F7-7924-46E1-B3EA-56D5DDCE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314-2351-4B6E-AB78-CF4AD523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7E8-E4DE-4D6B-AC89-C4BECA6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70C1-9844-4F76-8C50-CAA382C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9F6-5526-4E1C-A56B-FFDA0B93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6B11-AC51-4227-AC04-5E0D7A07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0AE9-3976-4544-8224-E32922E9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9DD-D2A8-4272-9108-15647E95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B10-EBD2-40DA-957A-AF410D9A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C3B-0E43-44D4-B0F6-5372B48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555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5C1-C990-43C3-9C91-84D662B2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B86-A262-4892-9907-32D910F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F41-8DE6-45D1-B2EA-9EFC298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503-7DA0-433F-9684-98E7BB6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ityEdm_DepCityManager_working slide_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B31DA-C1F9-4490-BC25-9962545A81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2DF1D-CC52-4A53-9587-12276F232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ityEdm_DepCityManager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A8018-B368-4AAA-8EDE-5C112A4C6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8299D-7A44-4BD3-A384-582C95CB2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CityEdm_DepCityManager_title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676520" y="4876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6a3"/>
                </a:solidFill>
                <a:latin typeface="Arial Black"/>
              </a:rPr>
              <a:t>Joh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6a3"/>
                </a:solidFill>
                <a:latin typeface="Arial Black"/>
              </a:rPr>
              <a:t>Chief Econo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66a3"/>
                </a:solidFill>
                <a:latin typeface="Arial Black"/>
              </a:rPr>
              <a:t>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0" y="1600200"/>
            <a:ext cx="8458200" cy="18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The Economic Impact of the Late Night Econom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June 28, 20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696080" y="60199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Growth in GDP for the City of Edmonton and the C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 CMA has enjoyed a quicker recovery has manufacturing and non-residential construction activity picks u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Over the medium term the City growth rate converges with that of the reg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 somewhat younger demographic profile allows the City and region to grow more rapidly then Canada in the final years of the outloo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495680" y="1828800"/>
          <a:ext cx="416880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828800"/>
                    <a:ext cx="4168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6"/>
          <p:cNvSpPr/>
          <p:nvPr/>
        </p:nvSpPr>
        <p:spPr>
          <a:xfrm>
            <a:off x="981720" y="5970960"/>
            <a:ext cx="43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Economic Trends and Extern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sks and Opportunit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discount for Cdn oil leads to slow down in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financial systems ‘locks’ pushing US into 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n housing market stumbles reducing consumer confidence and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slowdown in emerging markets depresses commodity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recovery gains momentum pulling up Cdn ex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patches over financial issues and returns to faster growth profile boosting glob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 and other emerging countries succeed in stimulating more rapid growth hiking global commodity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late night econom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5 licensed establishments open after mid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 approximately 23% of all licensed establishments in the 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stimated customer revenues in 2010 $467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stimated visits in 2010 – 20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ing the economic impa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survey data calculated total revenues for the sector based on average per seat val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a set of multipliers specific to the City of Edmont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d the direct and indirect impacts by applying City specific multipliers to the sector’s reven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for 20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impact on economic output $686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to Gross Domestic Product of the City - $310 million or 0.7% of the City to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ges and Salaries - $215 mill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time equivalent jobs – 5,800 or 1.5% of total employment in the 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ther key benefits of the sec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jor source of entry level positions for students and young peo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pport to special events such as the International Jazz Festival Fringe Fe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ortant factor in attracting and retaining young and mobile worke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 ancillary impacts via patron spending on retail, food, transportation and other s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R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conom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th Floor, Chancery H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onton, Alberta, T5J 2C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80) 496-60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.rose@edmonton.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developments in Edmonton’s Economy– Slowing Growth &amp; Rising R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, Alberta, Edmo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 of Edmonton, Job Growth, Employment, CPI and Non-Residential Construction and Labou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look - Edmonton and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te Night Econ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late night econo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onomic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Enviro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even and anaemic recovery is under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growth in advanced countries solid growth in developing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um is slowing building in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to experience a ‘double dip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struggling with debt and deficit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financial markets remain frag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, Italian, Portuguese and other sovereign deb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solved US debate on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651200" y="1600200"/>
          <a:ext cx="399276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39927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6"/>
          <p:cNvSpPr/>
          <p:nvPr/>
        </p:nvSpPr>
        <p:spPr>
          <a:xfrm>
            <a:off x="5272920" y="604836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national Monetary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ada, Alberta &amp; Edmont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ian domestic conditions remain good particularly in western provi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US expansion will boost grow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erta continues to outperform national average. Accelerates in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 will be a very good year for GDP &amp; outstanding employment growth in Edmont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’s growth will slow to more sustainable levels in 20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678200" y="1603440"/>
          <a:ext cx="400212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1603440"/>
                    <a:ext cx="400212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4876920" y="518796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IMF, Conference Board, Economic Trends and Extern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il Price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 Texas Intermed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52760" y="61293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US Energy Information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855720" y="1523880"/>
          <a:ext cx="7940520" cy="38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523880"/>
                    <a:ext cx="794052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il Price G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Text Placeholder 2"/>
          <p:cNvGraphicFramePr/>
          <p:nvPr/>
        </p:nvGraphicFramePr>
        <p:xfrm>
          <a:off x="1035000" y="1600200"/>
          <a:ext cx="70722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600200"/>
                    <a:ext cx="7072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946440" y="61326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Bloom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Gas Price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ry Hu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652760" y="61293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US Energy Information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304920" y="1523880"/>
          <a:ext cx="732924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732924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b Growth Stal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 lost in 2008 &amp; 2009 have now been recove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’s rate of job growth in 2011 among the fastest of any large municipa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ur force has been growing which has moderated wage press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job losses will delay but not prevent  expected labour shortages and wage pressures in the next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6"/>
          <p:cNvGraphicFramePr/>
          <p:nvPr/>
        </p:nvGraphicFramePr>
        <p:xfrm>
          <a:off x="4648320" y="1800360"/>
          <a:ext cx="4281480" cy="43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00360"/>
                    <a:ext cx="42814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7"/>
          <p:cNvSpPr/>
          <p:nvPr/>
        </p:nvSpPr>
        <p:spPr>
          <a:xfrm>
            <a:off x="4643280" y="5973840"/>
            <a:ext cx="23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Statistics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9400" y="152388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 CMA Unemployme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umer Inflation is Stabiliz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ton’s year over year inflation rate is down to 0.4% from relatively high levels in 201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ith Alberta, inflation will pick up somewhat from current levels. Forecast is for 2.00% in 201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491000" y="4835520"/>
            <a:ext cx="23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Statistics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500080" y="152388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onton CMA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Rate of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803840" y="2060640"/>
          <a:ext cx="4281480" cy="23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3840" y="2060640"/>
                    <a:ext cx="42814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2:06:34Z</dcterms:created>
  <dc:creator>Fadiel Razkalla</dc:creator>
  <dc:description/>
  <dc:language>en-US</dc:language>
  <cp:lastModifiedBy>andyun</cp:lastModifiedBy>
  <cp:lastPrinted>2012-04-25T16:19:02Z</cp:lastPrinted>
  <dcterms:modified xsi:type="dcterms:W3CDTF">2012-07-10T17:54:50Z</dcterms:modified>
  <cp:revision>263</cp:revision>
  <dc:subject/>
  <dc:title>Slide 1</dc:title>
</cp:coreProperties>
</file>